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3C08-6258-41C1-8075-83D68F71A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BA25-399E-42E7-BDDA-EE70322F2E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ee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3489-64E1-4F8B-9ED8-9E05309B9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A4C0-B3A6-4F4F-84E4-95923E82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89E5-AF81-4042-B452-CE4543165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AEB1-38F0-41FA-9C2D-ECBA662B3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F56B-9EF6-4292-B154-C6B113274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D6C6-D95A-4077-8CF8-A10C8F0E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4941A-ACFC-48BD-BFFC-E6A786EA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5A08-34FD-424D-A083-E45EA0C0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9420-BFF3-4528-B2CD-94F44429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6B12F-173F-437A-A418-8E93F7DF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DD45-5434-4EF9-93ED-F046DD01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54D0-A13D-44A9-84C5-E4E3F86C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7F58-BDCE-444A-96A3-B032A40E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EA79-838B-4BFB-AE97-2A03D743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8F11-0E39-45DE-806A-F6C7ABFA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34809-6ABD-40B8-8E44-24BFA83A4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9B17-D3D5-4B49-9CF0-E9ECD3D87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2EC3-2C34-4D1F-A281-6E627B26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AF28-EE39-4782-AD5D-63645784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C6E3-6B2E-440A-9DED-1B3C1C30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E28B-8CFF-4CAA-8F64-56E6C346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E734-3FB3-40AF-869F-34C72A50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A485-061C-47BC-9DE8-6E1F7B20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2E22-98BB-47A2-8BBE-4D1E60C2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6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8089c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f0f9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1717a2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7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1717a2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F0D6-AAE5-421A-B711-5DA0C78736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6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8089c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f0f9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1717a2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7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1717a2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E4FF-7AF7-4CEB-BFBE-17B0C0633D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MART OBJECTIV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lthy Kids Learn Bet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stitu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hiev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hievable is linked to measurable. Usually, there's no point in starting a job you know you can't finish, or one where you can't tell if/when you've finished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can I decide if it's achievab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you know it's measur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others have done it successfully (before you, or somewhere els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it's theoretically possible (ie clearly not 'not achievable'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you have the necessary resources, or at least a realistic chance of getting th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you've assessed the limit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hieva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y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ith a reasonable amount of effort and application can the objective be achiev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hievable/Agreeabl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By June 1, 2007 the HKLB Institute participants will have established a local school health advisory council that meets at least every other month during the school ye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alistic/Releva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By June 1, 2007 the HKLB Institute participants will have established a local school health advisory council that meets at least every other month during the school ye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lev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means two things; that the goal or target being set is something they can actually impact upon or change and secondly it is also important to the success of the projec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Telling teachers that they 'have to increase the school tax levy before the next school year' is not actually something they can do anything about - it's not relevant to them. However, asking them to reduce their expenditure on classroom materials by $20 over the next three months is entirely relevant to the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to whether it's relevant to what the school is trying to achieve, the budget manager has to decide this by considering the wider picture. 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alis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y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the people with whom the objective is set make an impact on the situation? Do they have the necessary knowledge, authority and skills? 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ecif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will know your objective is specific enough i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an observable action is linked to a number, rate, percentage or frequ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everyone who's involved knows that it includes them specific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everyone involved can understand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your objective is free from jarg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you've defined all your te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you've used only appropriate langua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ic</a:t>
            </a:r>
            <a:br>
              <a:rPr sz="3200"/>
            </a:br>
            <a:r>
              <a:rPr b="0" lang="en-US" sz="3200" spc="-1" strike="noStrike">
                <a:solidFill>
                  <a:srgbClr val="00ff99"/>
                </a:solidFill>
                <a:latin typeface="Arial"/>
              </a:rPr>
              <a:t>Wh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going to do 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how </a:t>
            </a:r>
            <a:br>
              <a:rPr sz="3200"/>
            </a:b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mu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6d1ec"/>
                </a:solidFill>
                <a:latin typeface="Arial"/>
              </a:rPr>
              <a:t>of wha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y wh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By June 1, 2007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ff99"/>
                </a:solidFill>
                <a:latin typeface="Arial"/>
              </a:rPr>
              <a:t>the HKLB Institute participants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will have </a:t>
            </a:r>
            <a:r>
              <a:rPr b="1" i="1" lang="en-US" sz="3200" spc="-1" strike="noStrike">
                <a:solidFill>
                  <a:srgbClr val="86d1ec"/>
                </a:solidFill>
                <a:latin typeface="Arial"/>
              </a:rPr>
              <a:t>established a local school health advisory council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6699"/>
                </a:solidFill>
                <a:latin typeface="Arial"/>
              </a:rPr>
              <a:t>that meets at least every other month during the school year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ic</a:t>
            </a:r>
            <a:br>
              <a:rPr sz="3200"/>
            </a:br>
            <a:r>
              <a:rPr b="0" lang="en-US" sz="3200" spc="-1" strike="noStrike">
                <a:solidFill>
                  <a:srgbClr val="00ff99"/>
                </a:solidFill>
                <a:latin typeface="Arial"/>
              </a:rPr>
              <a:t>Wh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going to do 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how </a:t>
            </a:r>
            <a:br>
              <a:rPr sz="3200"/>
            </a:b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mu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6d1ec"/>
                </a:solidFill>
                <a:latin typeface="Arial"/>
              </a:rPr>
              <a:t>of wha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y wh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September 2007, all health educators in our district will have participated in a district-wide mapping and alignment worksho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January 2008, all health educators in our district will have completed an update to our k-12 health curriculum scope and sequ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ic</a:t>
            </a:r>
            <a:br>
              <a:rPr sz="3200"/>
            </a:br>
            <a:r>
              <a:rPr b="0" lang="en-US" sz="3200" spc="-1" strike="noStrike">
                <a:solidFill>
                  <a:srgbClr val="00ff99"/>
                </a:solidFill>
                <a:latin typeface="Arial"/>
              </a:rPr>
              <a:t>Wh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going to do 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how </a:t>
            </a:r>
            <a:br>
              <a:rPr sz="3200"/>
            </a:b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mu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6d1ec"/>
                </a:solidFill>
                <a:latin typeface="Arial"/>
              </a:rPr>
              <a:t>of wha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y wh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ptember 200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all</a:t>
            </a:r>
            <a:r>
              <a:rPr b="0" lang="en-US" sz="3200" spc="-1" strike="noStrike">
                <a:solidFill>
                  <a:srgbClr val="00ff99"/>
                </a:solidFill>
                <a:latin typeface="Arial"/>
              </a:rPr>
              <a:t> health educators in our distric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6d1ec"/>
                </a:solidFill>
                <a:latin typeface="Arial"/>
              </a:rPr>
              <a:t>will have participated 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6d1ec"/>
                </a:solidFill>
                <a:latin typeface="Arial"/>
              </a:rPr>
              <a:t>a district-wide mapping and alignment worksho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January, 200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a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99"/>
                </a:solidFill>
                <a:latin typeface="Arial"/>
              </a:rPr>
              <a:t>health educators in our distric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ill 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have complet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 </a:t>
            </a:r>
            <a:r>
              <a:rPr b="0" lang="en-US" sz="3200" spc="-1" strike="noStrike">
                <a:solidFill>
                  <a:srgbClr val="86d1ec"/>
                </a:solidFill>
                <a:latin typeface="Arial"/>
              </a:rPr>
              <a:t>update to our k-12 health curriculum scope and sequ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riting SMART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objective is derived from a goal, has the same intention as a goal, but it is more specific, quantifiable and verifiable than the go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ecific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y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there a description of a precise or specific behavior/outcome which is linked to a rate, number, percentage or frequency? 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me bas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objective somewhere there has to be a da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Day/Month/Year) for when the task has to be started (if it's ongoing) and/or completed (if it's short term or project related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y: No date = No goo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me bou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y June 1, 2007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the HKLB Institute participants will have established a local school health advisory council that meets at least every other month during the school ye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457200" y="2895480"/>
          <a:ext cx="6324480" cy="3489480"/>
        </p:xfrm>
        <a:graphic>
          <a:graphicData uri="http://schemas.openxmlformats.org/drawingml/2006/table">
            <a:tbl>
              <a:tblPr/>
              <a:tblGrid>
                <a:gridCol w="990720"/>
                <a:gridCol w="914400"/>
                <a:gridCol w="1371600"/>
                <a:gridCol w="1447560"/>
                <a:gridCol w="1600200"/>
              </a:tblGrid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kil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entiv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our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on Pl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s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entiv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our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on Pl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s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kil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our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on Pl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s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kil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entiv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on Pl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s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kil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entiv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our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6781680" y="2895480"/>
          <a:ext cx="1905120" cy="3322800"/>
        </p:xfrm>
        <a:graphic>
          <a:graphicData uri="http://schemas.openxmlformats.org/drawingml/2006/table">
            <a:tbl>
              <a:tblPr/>
              <a:tblGrid>
                <a:gridCol w="457200"/>
                <a:gridCol w="1447920"/>
              </a:tblGrid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us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xie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ow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lse Star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ust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457200" y="1397160"/>
          <a:ext cx="8229600" cy="701640"/>
        </p:xfrm>
        <a:graphic>
          <a:graphicData uri="http://schemas.openxmlformats.org/drawingml/2006/table">
            <a:tbl>
              <a:tblPr/>
              <a:tblGrid>
                <a:gridCol w="990720"/>
                <a:gridCol w="914400"/>
                <a:gridCol w="1447560"/>
                <a:gridCol w="1371600"/>
                <a:gridCol w="1600200"/>
                <a:gridCol w="457200"/>
                <a:gridCol w="1447920"/>
              </a:tblGrid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s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kil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our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entiv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on Pl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Text Box 384"/>
          <p:cNvSpPr/>
          <p:nvPr/>
        </p:nvSpPr>
        <p:spPr>
          <a:xfrm>
            <a:off x="533520" y="6462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hat’s Needed for Change to Occu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385"/>
          <p:cNvSpPr/>
          <p:nvPr/>
        </p:nvSpPr>
        <p:spPr>
          <a:xfrm>
            <a:off x="441360" y="2246400"/>
            <a:ext cx="63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hat Happens when Pieces are Missin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riting SMART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RT stands for: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cific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urabl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evable/Agreeabl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listic/Relevant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e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riting SMART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't try to use that order M-A/R-S-T is often the best way to write objecti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riting SMART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able is the most important consider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will know that you've achieved your objective, because here is the evid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asur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your object of interest measure up to your standard of accept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 the phone quick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one calls will be answered in three r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asur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y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there something measurable to assess progress towards the objective? 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asur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By June 1, 2007 the HKLB Institute participants will have established a local school health advisory council that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eets at least every other month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uring the school year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hiev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people feel that Agreed should stand for the definition of A in SMART. objectives should indeed be agreed upon between involved participants rather than enforced.  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00:24:30Z</dcterms:created>
  <dc:creator>Gary English</dc:creator>
  <dc:description/>
  <dc:language>en-US</dc:language>
  <cp:lastModifiedBy>Adam Marcus</cp:lastModifiedBy>
  <dcterms:modified xsi:type="dcterms:W3CDTF">2011-03-12T04:26:13Z</dcterms:modified>
  <cp:revision>10</cp:revision>
  <dc:subject/>
  <dc:title>SMART OBJECTIVES</dc:title>
</cp:coreProperties>
</file>